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79C-9F89-4DD0-BDEB-2B643B37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19F-F883-4869-81F7-19DB673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9A9-562E-49D5-A0FB-933DFDD9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B3D-A8AB-4303-9F50-2A10AC72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03F-A956-42E1-9BCF-6B394012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ABA-85A3-4D1B-B68E-36CD82C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338-01C7-4019-9E10-0BAB571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EDF-3D0F-4AD0-BE48-8A4C18C8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487-B08A-44EE-B6B0-CD48EE2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C01-A528-4AAA-A335-99C10393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A40-1648-4E53-9731-A6B4395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E01-2450-4B67-9E98-3D10F3A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9ED9-2AE4-4CB7-8DB7-1FB9E24C00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1" descr=""/>
          <p:cNvPicPr/>
          <p:nvPr/>
        </p:nvPicPr>
        <p:blipFill>
          <a:blip r:embed="rId1"/>
          <a:stretch/>
        </p:blipFill>
        <p:spPr>
          <a:xfrm>
            <a:off x="95400" y="549360"/>
            <a:ext cx="89532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Rol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5157720"/>
            <a:ext cx="7775640" cy="147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Working Relations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1979640" y="1341360"/>
            <a:ext cx="509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64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ny entrepreneurs set up their enterprise as a one-person operation but gradually build a successful team around them as the business exp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3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ch the video clip from Big Ideas Wales – Annette C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orking in pai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dentify the skills/roles needed for a successful business ven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r ideas with the people sitting in front of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kills/roles needed for a successful business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ontent Placeholder 11268"/>
          <p:cNvGrpSpPr/>
          <p:nvPr/>
        </p:nvGrpSpPr>
        <p:grpSpPr>
          <a:xfrm>
            <a:off x="2041920" y="1765440"/>
            <a:ext cx="4880520" cy="4644000"/>
            <a:chOff x="2041920" y="1765440"/>
            <a:chExt cx="4880520" cy="4644000"/>
          </a:xfrm>
        </p:grpSpPr>
        <p:sp>
          <p:nvSpPr>
            <p:cNvPr id="49" name="_s1028"/>
            <p:cNvSpPr/>
            <p:nvPr/>
          </p:nvSpPr>
          <p:spPr>
            <a:xfrm>
              <a:off x="3192120" y="1765440"/>
              <a:ext cx="2577960" cy="257832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8320"/>
                <a:gd name="textAreaBottom" fmla="*/ 2578320 h 25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 rot="4320000">
              <a:off x="4009320" y="2359800"/>
              <a:ext cx="2577960" cy="257760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7600"/>
                <a:gd name="textAreaBottom" fmla="*/ 2577600 h 25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rot="8640000">
              <a:off x="3695760" y="3319560"/>
              <a:ext cx="2577600" cy="2578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 rot="12960000">
              <a:off x="2686680" y="3317760"/>
              <a:ext cx="2577600" cy="2577960"/>
            </a:xfrm>
            <a:custGeom>
              <a:avLst/>
              <a:gdLst>
                <a:gd name="textAreaLeft" fmla="*/ 0 w 2577600"/>
                <a:gd name="textAreaRight" fmla="*/ 2577600 w 257760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 rot="17280000">
              <a:off x="2376720" y="2357640"/>
              <a:ext cx="2578320" cy="2577960"/>
            </a:xfrm>
            <a:custGeom>
              <a:avLst/>
              <a:gdLst>
                <a:gd name="textAreaLeft" fmla="*/ 0 w 2578320"/>
                <a:gd name="textAreaRight" fmla="*/ 2578320 w 257832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514260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Product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216828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ales and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rketing 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287208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nagement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584604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Fina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4007160" y="537300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Promotion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ob Rol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ing the role cards in the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the roles that you consider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mportant for your business ven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reate an organisation chart for your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Content Placeholder 5124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63" name="_s2052"/>
            <p:cNvCxnSpPr>
              <a:stCxn id="64" idx="0"/>
              <a:endCxn id="65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053"/>
            <p:cNvCxnSpPr>
              <a:stCxn id="67" idx="0"/>
              <a:endCxn id="65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054"/>
            <p:cNvCxnSpPr>
              <a:stCxn id="69" idx="0"/>
              <a:endCxn id="65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" name="_s2055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57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8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8910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ing the results of the skills audit/ any other test that has identified skills and abilitie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Identify possible roles that match your skills and abilitie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Identify any role/roles that cannot be adequately filled due to a lack of necessary skill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Explain how this difficulty might be over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95280" y="549360"/>
          <a:ext cx="8229600" cy="5656320"/>
        </p:xfrm>
        <a:graphic>
          <a:graphicData uri="http://schemas.openxmlformats.org/drawingml/2006/table">
            <a:tbl>
              <a:tblPr/>
              <a:tblGrid>
                <a:gridCol w="2743200"/>
                <a:gridCol w="3449520"/>
                <a:gridCol w="20368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ills/Qua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es and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ary and human resour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ggestions for addition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880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the sheet you have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ven to reflect on the way in which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identified the role/roles most su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5565600" y="4505400"/>
            <a:ext cx="31672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9:45:58Z</dcterms:created>
  <dc:creator>Home</dc:creator>
  <dc:description/>
  <dc:language>en-US</dc:language>
  <cp:lastModifiedBy> </cp:lastModifiedBy>
  <dcterms:modified xsi:type="dcterms:W3CDTF">2015-08-27T15:32:46Z</dcterms:modified>
  <cp:revision>45</cp:revision>
  <dc:subject/>
  <dc:title>Slide 1</dc:title>
</cp:coreProperties>
</file>